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F53-C292-4593-BB3D-7B8F0C11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7EB-9457-4154-9EAD-285D14C1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233-6F6A-4D47-9547-71807151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FFC-FDCE-41DC-AC23-4A805332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A878-D62A-469D-B300-5E6DABC3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C01-9C1E-4F2C-9FAA-690BFAEE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CA8-79DE-4C2C-95C1-AA50ACF5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A8C-0CA4-4369-8EDF-481ADFAF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C1A-E94D-4760-A25A-604A768B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980-1F87-4A95-9346-A29F0AA8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586-5612-4E54-A5C2-44AF66D8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DB94-6C98-4D84-A8A0-2C8E3C65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0BE4-A16A-4CFF-9C95-463CE3116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ROSS-SECTIONAL STUDIE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973240" y="2376360"/>
            <a:ext cx="31878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86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5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51:59Z</dcterms:modified>
  <cp:revision>106</cp:revision>
  <dc:subject/>
  <dc:title>The Art in the State of the Art</dc:title>
</cp:coreProperties>
</file>